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AD22-5CFA-42D7-ABEC-FD343A39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66B4-6466-4CE1-8DF3-1C266532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7DFA-9793-48A2-9A71-80427DB7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1B0E-6E6C-415F-8E6F-C7A1196C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1BF4-3D64-4D24-9056-2E943BDF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1A0D-1F91-4330-A20E-8F59496E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DDA8-592C-4560-A893-5F8B1680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C0FE-5F43-49E7-B7CC-ACE7FE6A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ACC0-08C2-4351-841C-4F9DE9FA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97FF-D8AD-411B-BF1E-C3B8C5C7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3656-B2F8-4F2A-B5B7-83D37832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9580-13AD-48A0-9E01-49FDA572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E937-0FDC-47B7-9DAA-71892FF2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754B-A0AD-437B-B6F9-1BC24425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922A-3D49-4CF6-A0EF-5D2D0EAF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7CB4-BACB-467E-8FCE-F2A010F3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00B6-C18A-46A7-B061-4B3EA8D0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506E-524C-45BD-AB11-CB9CFCC6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F1B5-C040-474E-94C5-2A96542F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2A33-C1AD-475D-BADA-CE47E158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9506-071B-41D8-B7EE-6FB20A50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6CDE-6745-464C-B5E3-7CFDF17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68F7-037A-4A90-9954-33848A5A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125B-5FC7-4DA7-9899-2E2E4838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DB8-F868-48D5-94C4-75C8FAF7FA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77F3-647F-432A-A482-D477A37B938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C0CE-FA1F-4ACB-9713-1C559586867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E1C2-09BD-474D-803C-8EF9BD70FD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5400" spc="-1" strike="noStrike" u="sng">
                <a:solidFill>
                  <a:srgbClr val="ff0000"/>
                </a:solidFill>
                <a:uFillTx/>
                <a:latin typeface="Arial"/>
              </a:rPr>
              <a:t>Unterricht in Live Online- Räumen</a:t>
            </a:r>
            <a:r>
              <a:rPr b="0" i="1" lang="de-DE" sz="5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5400"/>
            </a:br>
            <a:r>
              <a:rPr b="0" i="1" lang="de-DE" sz="5400" spc="-1" strike="noStrike" u="sng">
                <a:solidFill>
                  <a:srgbClr val="ff0000"/>
                </a:solidFill>
                <a:uFillTx/>
                <a:latin typeface="Arial"/>
              </a:rPr>
              <a:t>Biologie</a:t>
            </a:r>
            <a:br>
              <a:rPr sz="5400"/>
            </a:b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476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a, der KMSI Sechshaus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de-AT" sz="2800" spc="-1" strike="noStrike" u="sng">
                <a:solidFill>
                  <a:srgbClr val="ffffff"/>
                </a:solidFill>
                <a:uFillTx/>
                <a:latin typeface="Arial"/>
              </a:rPr>
              <a:t>Michaela Hofmeister, Dr. Rist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F924-F809-471A-A292-A5284937447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AD0ED3E-65B9-43B1-89E7-43F262A84E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 u="sng">
                <a:solidFill>
                  <a:srgbClr val="ff6600"/>
                </a:solidFill>
                <a:uFillTx/>
                <a:latin typeface="Arial"/>
              </a:rPr>
              <a:t>AIDS – eine Seuche unserer Zeit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hüler, Lehrer und Mediatoren des Aidshilfe Hauses Wi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A479-B10B-4C53-8C66-04BBB88606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7A23AAC-36CB-4B27-B8F9-D05EDB18AA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ff6600"/>
                </a:solidFill>
                <a:uFillTx/>
                <a:latin typeface="Arial"/>
              </a:rPr>
              <a:t>Vorarbeiten zur LiveOnline Stund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6600"/>
                </a:solidFill>
                <a:latin typeface="Arial"/>
              </a:rPr>
              <a:t>Erarbeitung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der wichtigsten Begriffe mit Hilfe des Inter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Die Schüler</a:t>
            </a:r>
            <a:r>
              <a:rPr b="0" lang="de-AT" sz="3200" spc="-1" strike="noStrike">
                <a:solidFill>
                  <a:srgbClr val="ff6600"/>
                </a:solidFill>
                <a:latin typeface="Arial"/>
              </a:rPr>
              <a:t> informieren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sich über themaspezifische Begriffe wi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HIV, AIDS- was bedeuten diese Abkürzungen eigentli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Welche Art von Krankheit ist AI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3316-ED2F-4305-A929-3749B10E36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1231192-2F25-4820-B5E9-DB127BAFF3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Kurzreferate der Schül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 Schüler suchen sich Subthemen zum großen Thema AIDS aus und referieren darü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m Beispi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gehe ich mit einem HIV – positiven Menschen 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schütze ich mich vor der Anstecku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kann man sich ansteck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8AEC-3982-411B-919B-C7FA4A96AA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60A3F03-C239-4A9F-9EC0-01BCBC783F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Rundgang durch das AIDSHILFE HAUS in Wie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11280" y="429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s Aidshilfe Haus in Wi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1619280" cy="2158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932360" y="400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n wirksames Anti -Aidsmit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2627280" y="4797360"/>
            <a:ext cx="2414520" cy="18115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651640" y="530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gendprä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2E13-AA6D-4E36-BF86-422F3B881AA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08F6736-709F-44BA-BB1B-B9112A6A34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Arial"/>
              </a:rPr>
              <a:t>Workshop des Aids Hilfe Hauses in Wien in der Schul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 Schüler wurden geschlechterspezifisch getren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wei Mediatoren kamen in die Gruppen und arbeiten mit den Schülern zum Thema (ohne Lehrer!!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ser Workshop dauerte 2 Stu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80000" y="4869000"/>
            <a:ext cx="1349280" cy="17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27DE-DAAA-4DFA-A34D-0C4516B17A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244E17-9D53-49E3-BF92-0FC4804452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6600"/>
                </a:solidFill>
                <a:latin typeface="Arial"/>
              </a:rPr>
              <a:t>Trotzdem hatten die Schüler noch immer Fragen an Frau Dr. Rist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C0AF-DA8E-4DAA-969A-CEBBAAD94F8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F8EEDFD-9566-47C1-A9E5-BD3C171F5B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 u="sng">
                <a:solidFill>
                  <a:srgbClr val="ff6600"/>
                </a:solidFill>
                <a:uFillTx/>
                <a:latin typeface="Arial"/>
              </a:rPr>
              <a:t>Fragen der Schüler der 4a an die Schulärztin Dr. Ristl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Gibt es schon HIV Tests, wo man nicht so lange auf das Ergebnis warten mu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Wie sicher sind diese 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Kann man von dieser Krankheit sicher nicht mehr gesund wer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Wann kommt es zum Ausbruch der Krankhe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Kann ich auch ohne Test erkennen, dass ich HIV – positiv b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Kann ich trotzdem schwanger wer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Was ist dann mit meinem Ki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Wann wird es eine Impfung geb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Stirbt man schnell dar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2F61-145E-4E0C-9E40-98D4831564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201F5FC-DB66-4E8C-A84E-0BB21ED147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3:26:54Z</dcterms:created>
  <dc:creator>KUNIGUNDE</dc:creator>
  <dc:description/>
  <dc:language>en-US</dc:language>
  <cp:lastModifiedBy>l91503201</cp:lastModifiedBy>
  <dcterms:modified xsi:type="dcterms:W3CDTF">2010-06-18T10:05:24Z</dcterms:modified>
  <cp:revision>14</cp:revision>
  <dc:subject/>
  <dc:title>Unterricht in Live Online- Räumen   </dc:title>
</cp:coreProperties>
</file>